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FF4B20-EEDE-4D36-A494-2F0D96CC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D58EE0-49C1-4413-BB90-38E917BF7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DFA54FE-CE16-4843-A404-9F51405D5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3C9627-0FCF-4018-9759-E45FAF257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AAC173-DBCE-443C-A44F-30953E047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ns grade, crosses expectations, broad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27A995-BC3F-4D65-92C9-25A11336E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B02BB9-7DF5-4607-9E95-140A876A5C5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FFBA8C-AC2F-4E32-A7E4-F8E2C41CD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2779BE-3E28-42B9-9FCA-83ABD73C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F07448-F1B8-47C5-8D78-0514B582B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1AEE49-8887-445B-89FC-74EE911DB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EA6879-FF45-4B14-9214-0E1F36BBA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737AAC-E5F5-447A-ADF1-D562EA07C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8EED806-5AB5-4C8B-9371-4458EBB17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group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6BB479-C8B1-4027-9A30-BC5AA6A6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all group followed by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1FD17E-4784-4682-834F-BD4C9E67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994E4C-F4B0-4457-ABEF-6772D347C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770648-DED4-4AEF-96EF-981C95775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table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6A7C7D-1785-4B13-BCB0-81C937ED3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tables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2BD2DF-90D0-4FE8-9DC4-AA8024155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CB1C84-B1B6-4E58-912A-5AB8262B1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0E0E617-7E3A-4B6E-82BA-AA696277C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2A1807-8D57-4997-86E4-CCBCA7CF7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k about the term Minds-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e solutions:   -9,-8,-7,….  Or  -38, -36,….  OR -67, -64, -61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k about how they got to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5247F1-2DB8-44D4-A56E-BEE7E8854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D9054E-F9AB-466C-A898-6BDA1E90B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4A2DE5-54CD-4F64-B63E-20503A96F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D417ED-38BE-45FB-9FAA-95B94E2B7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0B0385-7B6F-4848-9979-E8CE22631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07A63E-57CB-4115-8455-0B5416CF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3C1751-FA28-4165-A6EC-F9FC66F1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753CC4-5C55-4DD1-9621-A1EA850D5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EE4213-4CB2-40BF-8201-8C9166A56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CE1861-546A-4D05-AB7B-18E1B2542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41B12F-9507-4280-8552-64617BC65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s : positive if -9, -8,-7,….  (it would be 10)  or negative e.g. -270, -260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17E2F2-5F94-496D-B7C2-54108C00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255EAC-C04D-4135-A533-005B82A86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E6E311-427A-450B-A4E7-616F473A8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E39377-0E88-48A2-A3C3-9DC503AC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be what other representation  ( or mayb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B6C465-4F8C-44F2-9360-35302DE85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81183F-8ACE-4C74-B667-7F6AAD72D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B8CF9F-43CA-45D1-A8D1-2A22597E9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es closer to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969DA8-B1D4-478F-B8A6-23E8FCDA4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es closer to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14C6D8-623B-4AC4-B301-FB8337291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028ABEF-6E6F-4C08-BC4F-C8E6F44B3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4C9FAA-9535-473C-A0BD-25B75B156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6DFB62-0B05-4C80-9D28-E4E04660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E7F1CA-8CCF-4D70-8101-C9EB0FE30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126C26-AEAC-47EC-9F3A-CF3C9171B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D37319-F35D-4D5A-B952-912BD248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be that there are many sequences with a common term; maybe what a linear growing pattern is; maybe that if the sequence grows fast then values that are near in position  are far apart but if the sequence goes slow, it’s not true; maybe it’s that sequences can grow fast or slow- discuss at tables and then in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F3EDAA-C553-43E6-85A1-1EAFB5DE2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would deal with first big idea regardless but second one only if I ask that other question- large group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352EFB-06AF-41F6-9643-737B980E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hetorical only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294F7F-DC20-4F6A-867A-B387D5DB8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D27-E1CE-4DFB-A2C2-60A17ED6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8C3-6ACC-4D0B-AB31-A843123F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96B-939D-481C-95F7-932EAED7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337-DEC2-400D-8C37-AFB1CF0B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CB87-212E-4403-839C-612F2493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7FA1-D0E4-4D36-B93E-8E892AF5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48E1-F6C4-4676-8215-0BC3F4DA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10CA-4AD2-418E-A8BA-17B7AAD7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8097-0169-40EC-A17C-4E35273F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AD7-A82C-4D5B-A01A-50F76BEC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52D0-D83A-4D33-85AF-4DEDB788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C1F-BF53-4D7C-9457-F849C062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57B3-1AF1-422F-AD46-D2D39362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158D-C875-4ABE-ACED-B81C7DB2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DDBF-C5F0-45D9-A7A5-E6A349C7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E8E9-CC4D-4569-8563-C5FD6302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6873-6E7A-4C09-8ED0-51720F71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EA6-AAD5-470B-BE67-F17B8653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CC0-40A8-4F36-89C4-526DB6AB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EE4-3F67-495B-9F08-77214EFC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C86-AA05-401D-851B-5CDE6624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F13-5813-49E6-AF79-49B4F791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504-8DD7-4BDC-8856-3B9FD5E6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84D-9CAE-451A-A345-EEF8805F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D45C-9B34-4D0F-B2B3-6733D6623B5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DCB9-1D1A-49ED-B895-B9E0ED2B1A3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netwoinfinity.ca/" TargetMode="External"/><Relationship Id="rId2" Type="http://schemas.openxmlformats.org/officeDocument/2006/relationships/hyperlink" Target="mailto:mkestell@sympatico.ca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2819520" y="5257800"/>
            <a:ext cx="5308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Plenary 1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95280"/>
            <a:ext cx="571500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ummer Institute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under Bay</a:t>
            </a:r>
            <a:br>
              <a:rPr sz="4800"/>
            </a:br>
            <a:endParaRPr b="0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73000" y="312408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ou Kes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Rod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dy Tel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5800" y="9907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are the Big Idea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0880" y="2438280"/>
            <a:ext cx="87631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andall Charles: A Big Idea is a statement of an idea that is central to the learning of mathematics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6FE1-4F1B-437E-90C5-1DEBB3FC1B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457200" y="2209680"/>
            <a:ext cx="817884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rian Small: A Big Idea is one that connects numerous mathematical understandings into a coherent whol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5D26-26D0-484F-988C-96C7FCEF0F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are Big Idea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4300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A Big Ide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1447920"/>
            <a:ext cx="8458200" cy="67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NOT a topic name nor an overall expectation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s a statement (sentence) that a student could walk away with that makes a fundamental mathematical connecti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vides a lens in which to embed new learning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BF01-86C4-4DC5-940B-AF9DC5AB54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38080" y="91440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Big Idea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8CEF-3D5B-434B-8716-524CCABB2B3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132000" y="1052640"/>
            <a:ext cx="5554800" cy="5562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0" y="1614600"/>
            <a:ext cx="5029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Represen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c0000"/>
                </a:solidFill>
                <a:latin typeface="Arial"/>
              </a:rPr>
              <a:t>Reflec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ff"/>
                </a:solidFill>
                <a:latin typeface="Arial"/>
              </a:rPr>
              <a:t>Reasoning and Prov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cc00"/>
                </a:solidFill>
                <a:latin typeface="Arial"/>
              </a:rPr>
              <a:t>Connec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8080"/>
                </a:solidFill>
                <a:latin typeface="Arial"/>
              </a:rPr>
              <a:t>Selecting Tools and Computational Strate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 rot="18202800">
            <a:off x="3752640" y="339372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1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-57240" y="196524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0"/>
          <p:cNvSpPr txBox="1"/>
          <p:nvPr/>
        </p:nvSpPr>
        <p:spPr>
          <a:xfrm rot="19346400">
            <a:off x="5314680" y="3166560"/>
            <a:ext cx="89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1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athematical Processe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526E-006 L 0.30642 0.22196 E">
                                      <p:cBhvr>
                                        <p:cTn id="20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5723E-006 L 0.67431 -0.04 E">
                                      <p:cBhvr>
                                        <p:cTn id="203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0.37552 -0.17989 E">
                                      <p:cBhvr>
                                        <p:cTn id="20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6647E-006 L 0.37621 0.07976 E">
                                      <p:cBhvr>
                                        <p:cTn id="207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31214E-006 L 0.49705 -0.20879 E">
                                      <p:cBhvr>
                                        <p:cTn id="20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3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3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3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3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1329E-006 L 0.45347 0.15977 E">
                                      <p:cBhvr>
                                        <p:cTn id="281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0867E-006 L 0.61268 0.34174 E">
                                      <p:cBhvr>
                                        <p:cTn id="294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2280" y="6094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Notice the proce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B216-A994-46D1-9CAA-4EFBA59D34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152280" y="1447920"/>
            <a:ext cx="4648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ig Idea #1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2"/>
          <p:cNvGrpSpPr/>
          <p:nvPr/>
        </p:nvGrpSpPr>
        <p:grpSpPr>
          <a:xfrm>
            <a:off x="5105520" y="1981080"/>
            <a:ext cx="4343400" cy="4434120"/>
            <a:chOff x="5105520" y="1981080"/>
            <a:chExt cx="4343400" cy="4434120"/>
          </a:xfrm>
        </p:grpSpPr>
        <p:grpSp>
          <p:nvGrpSpPr>
            <p:cNvPr id="147" name="Group 10"/>
            <p:cNvGrpSpPr/>
            <p:nvPr/>
          </p:nvGrpSpPr>
          <p:grpSpPr>
            <a:xfrm>
              <a:off x="6095880" y="4114800"/>
              <a:ext cx="2144880" cy="2300400"/>
              <a:chOff x="6095880" y="4114800"/>
              <a:chExt cx="2144880" cy="2300400"/>
            </a:xfrm>
          </p:grpSpPr>
          <p:pic>
            <p:nvPicPr>
              <p:cNvPr id="148" name="Picture 2" descr="gear"/>
              <p:cNvPicPr/>
              <p:nvPr/>
            </p:nvPicPr>
            <p:blipFill>
              <a:blip r:embed="rId1"/>
              <a:srcRect l="10754" t="22727" r="24492" b="27194"/>
              <a:stretch/>
            </p:blipFill>
            <p:spPr>
              <a:xfrm>
                <a:off x="6095880" y="4267080"/>
                <a:ext cx="2144880" cy="214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WordArt 10"/>
              <p:cNvSpPr txBox="1"/>
              <p:nvPr/>
            </p:nvSpPr>
            <p:spPr>
              <a:xfrm rot="19346400">
                <a:off x="6711840" y="4963680"/>
                <a:ext cx="895320" cy="323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Communicating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pic>
            <p:nvPicPr>
              <p:cNvPr id="150" name="WordArt 8" descr=""/>
              <p:cNvPicPr/>
              <p:nvPr/>
            </p:nvPicPr>
            <p:blipFill>
              <a:blip r:embed="rId2"/>
              <a:stretch/>
            </p:blipFill>
            <p:spPr>
              <a:xfrm>
                <a:off x="6242040" y="5407200"/>
                <a:ext cx="108504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WordArt 6"/>
              <p:cNvSpPr txBox="1"/>
              <p:nvPr/>
            </p:nvSpPr>
            <p:spPr>
              <a:xfrm rot="20286600">
                <a:off x="6489000" y="4409280"/>
                <a:ext cx="1656000" cy="38736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Reasoning and Proving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52" name="TextBox 11"/>
            <p:cNvSpPr/>
            <p:nvPr/>
          </p:nvSpPr>
          <p:spPr>
            <a:xfrm>
              <a:off x="5105520" y="1981080"/>
              <a:ext cx="43434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communicating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reasoning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271440" indent="-271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connecting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6094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Big Idea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57200" y="1371600"/>
            <a:ext cx="83818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0E39-B4A7-4AD9-B057-2904A9ADEEB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581280" y="5288040"/>
            <a:ext cx="5181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ich processes do you see embedded in this 2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nd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big idea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6094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Big Idea #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57200" y="1295280"/>
            <a:ext cx="86868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, verbal, concrete/pictorial) highlight different characteristics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haviours, and can serve different                           purpos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12D1-4CF6-4753-A512-D4188D9C4D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733920" y="5288040"/>
            <a:ext cx="5410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ich processes do you see embedded in this 3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rd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big idea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762120" y="68580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Big Idea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09480" y="1447920"/>
            <a:ext cx="779796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                      relationshi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4698-8E7A-4A7F-9921-2B7D593871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038480" y="4876920"/>
            <a:ext cx="5105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ich processes do you see embedded in this 4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th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big idea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371600" y="914400"/>
            <a:ext cx="669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Getting a feel for the big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8E4A-62F6-4EC3-B618-3657CF2D71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 Focus on Big Idea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4495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n 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Lou Kes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www.onetwoinfinity.ca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mkestell@sympatico.ca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69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Getting a feel for the big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6493-38B6-4551-9F42-36FFB38E1AE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54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143000" y="266688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D312-EBC6-4A18-AD10-1965B151EA2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990720" y="990720"/>
            <a:ext cx="730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219320" y="297180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1932-4CB5-4DF6-B93E-389F0628AC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38080" y="312408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#1 show the notion of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generalizatio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5ED1-A6AE-4BDB-B654-908A0A484A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#1 show the notion of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describing or analyzing relationships or chang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7FFD-3556-402B-96FA-76AE352EDB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143000" y="266688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could the question that matched Big Idea #2 broaden a student’s notion of what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 “class” of relationships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ight b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E914-F01B-4009-B973-1FD2AF6898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04920" y="259092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#3 broaden a student’s sense of what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different representations mean and/or what their purpose i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0507-CC59-4C0F-BA9C-2443CF4F59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ome questions about  your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04920" y="2666880"/>
            <a:ext cx="88390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Can you think of other examples that you’ve used in the past (with or without realizing it) to make students see Big Ideas #4 that </a:t>
            </a:r>
            <a:r>
              <a:rPr b="1" lang="en-US" sz="4200" spc="-1" strike="noStrike">
                <a:solidFill>
                  <a:srgbClr val="0000ff"/>
                </a:solidFill>
                <a:latin typeface="Comic Sans MS"/>
              </a:rPr>
              <a:t>from limited information you can get more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76F8-76AA-45EB-A49B-9FFF5B69B6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838080" y="83808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You</a:t>
            </a: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 just experienced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 parallel t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2819520"/>
            <a:ext cx="81788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A046-EA71-49F2-B53F-585E2BB218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62120" y="83808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y use big idea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33520" y="1828800"/>
            <a:ext cx="81532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both through grades and within grad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5120-A2C8-47FE-B2BD-A64EAB69CB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981080"/>
            <a:ext cx="86104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 in a linear growing pattern is negativ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 is 20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A4B3-8197-4B93-9FF8-96894A43A3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990720" y="762120"/>
            <a:ext cx="730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Sharing big ideas             with stud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533520" y="2514600"/>
            <a:ext cx="81532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students articulate big ideas, it becomes easier for them to make connections to prior knowledg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FC2E-532D-4F23-A220-080A47E85E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Building lesson goa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066680" y="251460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5F0C-F2CD-47C7-B66F-EA7F0E3FC2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914400" y="7621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For example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.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8528-F825-460B-B11A-32AEF474BD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685800" y="8380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is my lesson go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066680" y="22096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“students will use a balance to solve a linear equation”, but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7488-1215-482E-90C1-4006A2EFBB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38080" y="83808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is my lesson goal  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mayb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62120" y="2590920"/>
            <a:ext cx="79246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cognizing that solving an equation means determining an equivalent equation where the unknown value is more obvious.”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8A5B-30C5-4FD2-B461-DB94DEA67B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5800" y="68580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I mea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85800" y="1828800"/>
            <a:ext cx="84582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898E-D1BA-4095-933B-42EBA04FFA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762120" y="76212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I mean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57200" y="457200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hese equations are equivalen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 = 4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2x – 7  = 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3x + 7 = x + 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ED9A-34A6-4D01-B2DB-814A39B88B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09480" y="2133720"/>
            <a:ext cx="8102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certainly is easier to see the value of the unknown in one of these equation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685800" y="68580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does this mean for consolidating the less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066680" y="25909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2940-A58D-4F29-A4DD-0E21255F38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838080" y="8380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solidation op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57200" y="1676520"/>
            <a:ext cx="802656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gree or disagre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quation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5x – 4 =  17 + 3x             is really the equation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 = 10.5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 disguis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9C92-5EC3-4596-847E-97E744EDE2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838080" y="7621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solidation op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990720" y="1523880"/>
            <a:ext cx="741672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 = 10.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9C0C-21EC-423D-9A1F-255005F436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2014560"/>
            <a:ext cx="84582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 is tha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CE84-907D-46A5-B3CA-59412EC94F7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7621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solidation op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066680" y="19051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4350-6EAE-42B7-936C-6C761DA2AB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914400" y="7621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One more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1752480"/>
            <a:ext cx="82296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urriculum expectation reads: construct tables of values and graphs using a variety of tools to represent linear relations derived from descriptions of realistic situations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8F57-F12D-46DF-A3D7-F30FAE922D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5800" y="68580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ossible go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04920" y="1676520"/>
            <a:ext cx="86104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udents will see that it is useful to write the table of values where the independent variable increases in a consistent way, but that’s not required for all tables of valu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E677-5CD5-4D00-A6A4-24E3CF2477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228600" y="6858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Related consolidation ques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33520" y="1600200"/>
            <a:ext cx="83818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termine whether or not they represent linear relationships. Which table makes it easier to tel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126C-933E-4A72-AF7D-C6E5DEC355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C096-0E5B-45A6-A16C-3915F3575B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44792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nd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066680" y="19810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01B7-0463-469A-82D1-E194C6130A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066680" y="83808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O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80880" y="1752480"/>
            <a:ext cx="87631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y goal could have been, instead, to ask students to consider how a graphical representation of a relationship described verbally gives other insights into the relationshi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62C8-CBE9-45D7-A187-2BE3771056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That consolidating could have been 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85800" y="2971800"/>
            <a:ext cx="79502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characteristics of the relationship did the graph make easy to see that were not so obvious befo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FD08-2A0C-4200-82BD-FC3430B121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09480" y="68580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solidate today’s 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D67E-FDDB-413A-ADFA-189C6EB03CE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09480" y="1600200"/>
            <a:ext cx="815364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the difference between an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expectatio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big idea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 O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’s so big about big idea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In preparation for our next time together: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8672-29B9-4FFF-84DD-9FA3CBFB554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609480" y="2666880"/>
            <a:ext cx="802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you think about what you consider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important issues in developing lesson goal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haracteristics of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289548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C3EE-6CE4-4917-BD83-0F9FB15E0D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762120" y="76212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The Important Boo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609480" y="198108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, The Important Book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2E5A-D12F-4550-A377-B1CCB3ACE2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F1D6-4892-4523-837B-42F61BDDFC6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Picture 1.png"/>
          <p:cNvPicPr/>
          <p:nvPr/>
        </p:nvPicPr>
        <p:blipFill>
          <a:blip r:embed="rId1"/>
          <a:stretch/>
        </p:blipFill>
        <p:spPr>
          <a:xfrm>
            <a:off x="0" y="0"/>
            <a:ext cx="63118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609480" y="7621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e wil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2016-C636-4437-A703-7A4F466428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609480" y="1981080"/>
            <a:ext cx="815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haracteristics of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do you think the important math underlying idea i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9068-AD57-4591-B05D-7AE69B9A0F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haracteristics of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would this question prompt students to deal with that underlying idea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E59A-DD0F-4B5B-924A-38582DA8B4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14400" y="99072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Might lead to students being able to respond to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5800" y="2895480"/>
            <a:ext cx="779796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C0A9-2F93-49EF-98C7-C6D4B5DBD8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B096-F4B8-4102-895F-8DED90704A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7:28:48Z</dcterms:created>
  <dc:creator>Peel District School Board</dc:creator>
  <dc:description/>
  <dc:language>en-US</dc:language>
  <cp:lastModifiedBy>Kathy Kubota-Zarivnij</cp:lastModifiedBy>
  <dcterms:modified xsi:type="dcterms:W3CDTF">2009-08-20T17:46:14Z</dcterms:modified>
  <cp:revision>31</cp:revision>
  <dc:subject/>
  <dc:title>Coaching for Math GAINS Professional Learning</dc:title>
</cp:coreProperties>
</file>